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96597-57B0-4BB7-9A8E-DB72FE5BAE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egativity is a measure of the attraction of an atom for the electrons in a chemical bond. The higher the electronegativity of an atom, the greater its attraction for bonding electrons. Electronegativity is related to ioniz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Look at this water molecule…notice how the electrons are hanging around the oxygen rather than being shared by the hydrogen and oxygen evenly?  The oxygen has high electronegativity, while the hydrogen has low electronegativit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Note, you will learn more about bonds in future unit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80A0D-3AEF-4693-BEDD-F467BF948A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nother way to look at where the electrons are.  Notice how the grey overlaps into the blue?  That is because the oxygen is pulling the electrons to itself.</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234AD-8848-4C58-8B5B-3FC84FBEEE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looking at water.  This is just another way to draw electronegativity.  Notice those little funky looking ds?  That</a:t>
            </a:r>
            <a:r>
              <a:rPr b="0" lang="fr-FR" sz="1200" spc="-1" strike="noStrike">
                <a:solidFill>
                  <a:srgbClr val="000000"/>
                </a:solidFill>
                <a:latin typeface="Calibri"/>
              </a:rPr>
              <a:t>’</a:t>
            </a:r>
            <a:r>
              <a:rPr b="0" lang="en-US" sz="1200" spc="-1" strike="noStrike">
                <a:solidFill>
                  <a:srgbClr val="000000"/>
                </a:solidFill>
                <a:latin typeface="Calibri"/>
              </a:rPr>
              <a:t>s a delta symbol, and indicates which element is more electronegative.</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DD86D-060D-4FA0-BEB6-41D1CCDFD6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electronegativity increases as you move left to right, and bottom to to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s with low ionization energies have low electronegativities because their nuclei do not exert a strong attractive force on electrons. Elements with high ionization energies have high electronegativities due to the strong pull exerted on electrons by the nucleu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56A2E-6079-4A7E-89F2-CE7E4B80B1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n a group, the electronegativity decreases as atomic number increases, as a result of increased distance between the valence electron and nucleus (greater atomic radius). An example of an electropositive (i.e., low electronegativity) element is cesium; an example of a highly electronegative element is fluorine.</a:t>
            </a:r>
            <a:r>
              <a:rPr b="0" lang="en-US" sz="900" spc="-1" strike="noStrike">
                <a:solidFill>
                  <a:srgbClr val="000000"/>
                </a:solidFill>
                <a:latin typeface="Verdana"/>
              </a:rPr>
              <a:t> </a:t>
            </a:r>
            <a:endParaRPr b="0" lang="en-US" sz="9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94BDC-FE8A-4578-9B53-1E6FFC284C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question for you…why does hydrogen have a relatively high electronegativity but is on the left side of the periodic table?  Think about where it is located, but what it really is.  Answer this question on your homework.</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E05E8-4688-4BE4-A9FE-183B167135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hing we will talk more about in the future is how electronegativity affects bonds.  Just note here that if the atoms are the same.</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08227-C972-41A0-8AAB-E1BB0779D0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5182F-0467-445B-BE33-3334ADB1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DAAAD-5790-4C3B-A1B6-5253286A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39D51-5CBB-4FA8-89DE-881DEC8EF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89ADD-8DE5-4E23-AA57-B21C8BB90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5DE61-2960-49FE-A3D4-E91DB766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A3D9-807C-4E06-BC30-19686010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AA3E3-2859-468D-A353-62240117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9993-8EDD-43EB-88D6-A11CE346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0CDBA-7703-49FF-897D-A51B31F46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D81C-E72D-4F7B-8D79-3DD0BF15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68BF-C2A7-48AC-9BBF-186DC320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4E5CF-7DCF-4F2A-AE37-EBAB7C775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07F1D-8698-4D48-B98D-E6D3AAFC34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Electronegativ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1447200" y="0"/>
            <a:ext cx="63194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rPr>
              <a:t>Summary of Periodic Table Trends</a:t>
            </a:r>
            <a:r>
              <a:rPr b="0" lang="en-US" sz="2800" spc="-1" strike="noStrike">
                <a:solidFill>
                  <a:srgbClr val="000000"/>
                </a:solidFill>
                <a:latin typeface="Verdana"/>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oving Left --&gt; Righ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Atomic Radius De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Ionization Energy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Electronegativity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oving Top --&gt; Bottom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Atomic Radius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Ionization Energy De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Electronegativity Decreases </a:t>
            </a:r>
            <a:endParaRPr b="0" lang="en-US" sz="2800" spc="-1" strike="noStrike">
              <a:solidFill>
                <a:srgbClr val="000000"/>
              </a:solidFill>
              <a:latin typeface="Calibri"/>
            </a:endParaRPr>
          </a:p>
        </p:txBody>
      </p:sp>
      <p:sp>
        <p:nvSpPr>
          <p:cNvPr id="60" name="Text Box 3"/>
          <p:cNvSpPr/>
          <p:nvPr/>
        </p:nvSpPr>
        <p:spPr>
          <a:xfrm>
            <a:off x="685800" y="57150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Each family shares chemical and physical proper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614520"/>
            <a:ext cx="9144000" cy="56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ega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nds summ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rcRect l="35087" t="30445" r="0" b="23405"/>
          <a:stretch/>
        </p:blipFill>
        <p:spPr>
          <a:xfrm>
            <a:off x="0" y="136692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96840"/>
            <a:ext cx="9144000" cy="695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469800"/>
            <a:ext cx="9144000" cy="620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1160" y="885960"/>
            <a:ext cx="9178920" cy="40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790560"/>
            <a:ext cx="9144000" cy="54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677880"/>
            <a:ext cx="919332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6:04Z</dcterms:created>
  <dc:creator>Staff</dc:creator>
  <dc:description/>
  <dc:language>en-US</dc:language>
  <cp:lastModifiedBy>Staff</cp:lastModifiedBy>
  <dcterms:modified xsi:type="dcterms:W3CDTF">2014-06-03T19:52:37Z</dcterms:modified>
  <cp:revision>4</cp:revision>
  <dc:subject/>
  <dc:title>Lecture: Trends in the  Periodic Table: Electronegativity</dc:title>
</cp:coreProperties>
</file>